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5EA-0282-40A4-8850-933873F9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8DE-2A7E-4731-A26A-CE67988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86A-C128-4FB8-AE88-C01F5400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49E-672B-40D5-8210-C4DDF6F7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480-4597-4C5A-BB3C-ECEDBDB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C71-2BC0-4FFC-86C6-EDF2D04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91D-4EC7-4D04-9A18-17528C1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784-80DC-4D4A-BA95-9FA07F7D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D8A-17E8-4243-A3BC-36EBFD19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444-3A6A-498A-B3FE-84D0784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7F3-9D8C-4CB0-B47E-540BA82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A51-640F-47D2-B7BE-6181080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4E6-FC10-4674-935E-1E2EE77B6B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84400">
            <a:off x="6519240" y="1608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720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25000">
            <a:off x="5039280" y="2205000"/>
            <a:ext cx="42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لا يوجد كلام ممكن أن يعبّ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ن عمق حبي وشكري لك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2400">
            <a:off x="3986640" y="2924280"/>
            <a:ext cx="55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تكي كنت قرب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يديكي الحنونتين اللتان تعبت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تربي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جبينكِ الذي حمل همي و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 حياتي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356400">
            <a:off x="5386680" y="48686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حبك كثيرا يا أم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76000">
            <a:off x="3793680" y="1560600"/>
            <a:ext cx="589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أُقبّل ذلك الحض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ضمن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حزني، في فرحي، في اضطر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ضياعي ، في نجاحي، في فشلي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كل أحوا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وأقبّل وجهكي الحنون المبتسم دائما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أراحني  وأزال عني هم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85600">
            <a:off x="5817240" y="41493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أحبك كثيرا يا أم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52600">
            <a:off x="3647520" y="4508640"/>
            <a:ext cx="560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وأقبّل عيناكِ اللتان سهرتا لراح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يناكِ اللتان بكيتا كثيرا لأج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عيناكِ اللتان رأيت من خلال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      العالم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18600">
            <a:off x="6637320" y="164736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2400">
            <a:off x="4602600" y="2079720"/>
            <a:ext cx="469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أحبك كثيرا َ... وأح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قلبكِ الكبير الذي رأيت فيه 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حب وكل الحيا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ن يسوع ساكن فيه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800">
            <a:off x="3900600" y="3715920"/>
            <a:ext cx="52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سأبقى أحبك وأحتاج لحبك وحضن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حنانك طول ال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203400">
            <a:off x="1532520" y="2561760"/>
            <a:ext cx="314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كل سنة وإنتِ طيبة     ياأغلى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  يا ماما حبيبتي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0:13:42Z</dcterms:created>
  <dc:creator>Admin</dc:creator>
  <dc:description/>
  <dc:language>en-US</dc:language>
  <cp:lastModifiedBy>Wagdy</cp:lastModifiedBy>
  <dcterms:modified xsi:type="dcterms:W3CDTF">2004-03-19T14:54:55Z</dcterms:modified>
  <cp:revision>23</cp:revision>
  <dc:subject/>
  <dc:title>Slide 1</dc:title>
</cp:coreProperties>
</file>